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9769E-B183-47B0-B419-F39649568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B63A-CC2E-4740-90BD-734BE4EF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B8A37-0813-405C-8810-48EE1343B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71618-9BDA-4488-A181-50298B24F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1AD2-5DF0-429C-9DE5-4D1363687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7C61-5A0C-45D8-9FC2-28FCAF67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FE28C-8B25-44A4-8CB7-1A33BF046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316A-2D4C-4334-8687-731053DB3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A1F96-FF83-40CB-927E-830870183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C63C-6C04-499D-B3C0-E36E94DA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2F6F-E6EE-4541-BA94-29755E51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49EE-85D6-40EB-91F2-D8D71DDE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913A-9264-4AE1-A086-7E7F88BF49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22360" y="711000"/>
            <a:ext cx="5959440" cy="1933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Light"/>
              </a:rPr>
              <a:t>SMERNICE ZA INTEGRACIJO NAČEL ENAKOSTI SPOLOV, ENAKIH MOŽNOSTI, NEDISKRIMINACIJE IN DOSTOPNOSTI ZA INVALIDE PRI IZVAJANJU, SPREMLJANJU, POROČANJU IN VREDNOTENJU EKP 2014-2020</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4680"/>
            <a:ext cx="7886880" cy="60012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Temeljni pojmi</a:t>
            </a:r>
            <a:endParaRPr b="0" lang="en-US" sz="3600" spc="-1" strike="noStrike">
              <a:solidFill>
                <a:srgbClr val="000000"/>
              </a:solidFill>
              <a:latin typeface="Calibri Light"/>
            </a:endParaRPr>
          </a:p>
        </p:txBody>
      </p:sp>
      <p:sp>
        <p:nvSpPr>
          <p:cNvPr id="5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ntegracija načela nediskriminacije/enakost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ost spolov</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e možnosti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Diskriminacija (neposredna/posredn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4680"/>
            <a:ext cx="7886880" cy="69228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tegracija horizontalnih načel</a:t>
            </a:r>
            <a:endParaRPr b="0" lang="en-US" sz="3600" spc="-1" strike="noStrike">
              <a:solidFill>
                <a:srgbClr val="000000"/>
              </a:solidFill>
              <a:latin typeface="Calibri Light"/>
            </a:endParaRPr>
          </a:p>
        </p:txBody>
      </p:sp>
      <p:sp>
        <p:nvSpPr>
          <p:cNvPr id="595" name="Zaobljeni pravokotnik 5"/>
          <p:cNvSpPr/>
          <p:nvPr/>
        </p:nvSpPr>
        <p:spPr>
          <a:xfrm>
            <a:off x="741240" y="2082960"/>
            <a:ext cx="1941480" cy="4665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črtovanje ukrepov</a:t>
            </a:r>
            <a:endParaRPr b="0" lang="en-US" sz="1800" spc="-1" strike="noStrike">
              <a:solidFill>
                <a:srgbClr val="000000"/>
              </a:solidFill>
              <a:latin typeface="Calibri"/>
            </a:endParaRPr>
          </a:p>
        </p:txBody>
      </p:sp>
      <p:sp>
        <p:nvSpPr>
          <p:cNvPr id="596" name="Zaobljeni pravokotnik 6"/>
          <p:cNvSpPr/>
          <p:nvPr/>
        </p:nvSpPr>
        <p:spPr>
          <a:xfrm>
            <a:off x="4398840" y="2082960"/>
            <a:ext cx="1941480" cy="4665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 projektov</a:t>
            </a:r>
            <a:endParaRPr b="0" lang="en-US" sz="1800" spc="-1" strike="noStrike">
              <a:solidFill>
                <a:srgbClr val="000000"/>
              </a:solidFill>
              <a:latin typeface="Calibri"/>
            </a:endParaRPr>
          </a:p>
        </p:txBody>
      </p:sp>
      <p:sp>
        <p:nvSpPr>
          <p:cNvPr id="597" name="PoljeZBesedilom 7"/>
          <p:cNvSpPr/>
          <p:nvPr/>
        </p:nvSpPr>
        <p:spPr>
          <a:xfrm>
            <a:off x="1457280" y="2955960"/>
            <a:ext cx="72597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Analiz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Cilji in kazalniki</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zvajanje (navodila, javna naročila, informiranje in obveščanje, meril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Spremljanje in poročanj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rednotenj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Usposobljenost osebj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49860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preverjanje ustreznosti ukrepov EKP na pod. uveljav. HN</a:t>
            </a:r>
            <a:endParaRPr b="0" lang="en-US" sz="2400" spc="-1" strike="noStrike">
              <a:solidFill>
                <a:srgbClr val="000000"/>
              </a:solidFill>
              <a:latin typeface="Calibri Light"/>
            </a:endParaRPr>
          </a:p>
        </p:txBody>
      </p:sp>
      <p:graphicFrame>
        <p:nvGraphicFramePr>
          <p:cNvPr id="599" name=""/>
          <p:cNvGraphicFramePr/>
          <p:nvPr/>
        </p:nvGraphicFramePr>
        <p:xfrm>
          <a:off x="0" y="438120"/>
          <a:ext cx="9144000" cy="6512040"/>
        </p:xfrm>
        <a:graphic>
          <a:graphicData uri="http://schemas.openxmlformats.org/drawingml/2006/table">
            <a:tbl>
              <a:tblPr/>
              <a:tblGrid>
                <a:gridCol w="2565360"/>
                <a:gridCol w="6578640"/>
              </a:tblGrid>
              <a:tr h="268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ontrolno vprašanje</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dgovor</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r>
              <a:tr h="1271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ukrep (oziroma druga vrsta predlagane spodbude) zajema analizo stanja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analiza zadovoljivo opiše razlike med družbenimi skupinami na določenem področju (upošteva vidik spola in drugih okoliščin), glede na to, kako so opredeljene ciljne skupine. Povzeti so vzroki in posledice  družbenih neenak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 analiza je pomanjkljiva, potrebne so dopolnitv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mesto analize je zadovoljiva obrazložitev, zakaj upoštevanje načel ni relevant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je analiza povezana s programskimi,  nacionalnimi, regionalnimi in/ali lokalnimi cilji za nediskriminacijo / enakost / enake možnosti / dostopnost?</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ogramski, nacionalni, regionalni in/ali lokalni cilji za nediskriminacijo / enakost / enake možnosti / dostopnost ne obstajajo na zadevnem področju</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80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postavljeni cilji upoštevajo ključno problematiko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gre za ključni cilj in celoten ukrep (strategija) se zadovoljivo usmerja k reševanju problematike stanja na tem področju. </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ključni cilj, ki pa se ne usmerja zadovoljivo k reševanju problematike (npr. ukrep še spodbuja obstoječe stereotipe in družbene vlog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posredno prispeva k ciljem na področju spodbujanja enakosti, enakih možnosti in dostopnosti.  Posredni cilj je zadovoljivo zapisan.</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bi lahko posredno prispeval k ciljem na področju spodbujanja enakosti, enakih možnosti in dostopnosti, vendar slednje ni zadovoljivo opredelje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izbrani kazalniki v zadovoljivi meri sledijo postavljenim ciljem? So merljivi in se jih lahko pridobi? Je metodologija za nabor kazalnika jasna?</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 Da, kazalniki sledijo ciljem, so merljivi in dostopni. Predvideno je spremljanje podatkov glede na spol in druge relevantne okoliščine. Metodologija za zajem je jasna.</a:t>
                      </a:r>
                      <a:endParaRPr b="0" lang="en-US" sz="11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B) Ne, (nekateri) kazalniki niso primerni oziroma so težko dosegljiv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85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o v predvideno vrednotenje ukrepa zajete vsebine s področja integracije enakosti spolov, enakih možnosti in dostopnost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vrednotenje predvideva vsebine s področja integracije enakosti spolov, enakih možnosti in dostopn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 predvidenem vrednotenju vsebine s področja integracije enakosti spolov, enakih možnosti in dostopnosti niso predvidene. </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Naslov 1"/>
          <p:cNvSpPr/>
          <p:nvPr/>
        </p:nvSpPr>
        <p:spPr>
          <a:xfrm>
            <a:off x="193680" y="69840"/>
            <a:ext cx="7396200" cy="85392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Usmeritve za ocenjevanje (pogojevanje) projektov EKP na področju uveljavljanja horizontalnih načel</a:t>
            </a:r>
            <a:endParaRPr b="0" lang="en-US" sz="2400" spc="-1" strike="noStrike">
              <a:solidFill>
                <a:srgbClr val="000000"/>
              </a:solidFill>
              <a:latin typeface="Calibri"/>
            </a:endParaRPr>
          </a:p>
        </p:txBody>
      </p:sp>
      <p:graphicFrame>
        <p:nvGraphicFramePr>
          <p:cNvPr id="601" name=""/>
          <p:cNvGraphicFramePr/>
          <p:nvPr/>
        </p:nvGraphicFramePr>
        <p:xfrm>
          <a:off x="187200" y="934920"/>
          <a:ext cx="8875800" cy="5923080"/>
        </p:xfrm>
        <a:graphic>
          <a:graphicData uri="http://schemas.openxmlformats.org/drawingml/2006/table">
            <a:tbl>
              <a:tblPr/>
              <a:tblGrid>
                <a:gridCol w="8247240"/>
                <a:gridCol w="628560"/>
              </a:tblGrid>
              <a:tr h="29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ITERIJ</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Calibri"/>
                        </a:rPr>
                        <a:t>DA/NE/Ni RELEVANTNO</a:t>
                      </a:r>
                      <a:endParaRPr b="0" lang="en-US" sz="7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loš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ošteva zakonodajo in smernice na področju enakosti med spoloma, nediskriminacije, enakih možnosti in zagotavljanja dostopn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je vključena v opis problema in vsebuje opis vzrokov za ne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Cilji temeljijo na programskih ciljih in nacionalnih, regionalnih in/ali lokalnih ciljih</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cilji, pričakovani rezultati in načrtovane dejavnosti so koherentni (logični okvir)</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Iz finančnega okvirja je razvidno, kako so viri razdeljeni med moškimi in ženskam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ci projekta izkazujejo znanje in izkušnje na tem področju</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merila za izbor, kot so dostopnost, kompetence na področju enakosti spolov oziroma nediskriminacije in druga specifična znanja</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ostopnost</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raj, kjer se izvaja projekt (ali del njega), je dostopen širšim množicam (tudi gibalno oviranim)</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 projektu uporabljeni viri, materiali, produkti bodo širše dostopn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Rezultati projekta (npr. študije) so uporabni tudi v širši praks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remlja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ravičenec) bo zbiral ključne in relevantne podatke glede na spol , nediskriminacijo in dostopnost (kjer smiselno in mož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azalniki so opredeljeni na takšen način, da bo nosilec projekta lahko spremljal napredek pri doseganju cilj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nosilec projekta spremljal cilje in rezultate in – v kolikor se izkaže potreba - kako bo revidiral cilje </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everjanja dostopnosti infrastrukture v okviru projekta se bodo odvijala v sodelovanju z reprezentativnimi organizacijami (npr. organizacija, ki združuje slepe in slabovidn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rednote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interno vrednoten z vidika nediskriminacije /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vrednoten z vidika nediskriminacije / enakosti  s strani zunanjih izvajalc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zahtevo, da mora evalvator imeti kompetence na področju nediskriminacije / enakosti / enakih možnosti / dostopnosti  ter da mora ovrednotiti rezultate v luči zastavljenih ciljev za povečanje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ravokotnik 1"/>
          <p:cNvSpPr/>
          <p:nvPr/>
        </p:nvSpPr>
        <p:spPr>
          <a:xfrm>
            <a:off x="193680" y="1330200"/>
            <a:ext cx="8818560" cy="4081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poselni, vključno z dolgotrajno brezposel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olgotrajno brezposel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 ki se ne izobražujejo niti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aposleni, vključno s samozaposle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lajši od 25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 ki so brezposelni, vključno z dolgotrajno brezposelnimi ali neaktivnimi, ki se ne izobražujejo ali se ne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rimarno (ISCED 1) ali nižjo sekundarno izobrazbo (ISCED 2),</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 višjo sekundarno (ISCED 3) ali postsekundarno izobrazbo (ISCED 4),</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terciarno izobrazbo (ISCED 5 do 8),</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u z enim odraslim članom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igranti, udeleženci tujega rodu, manjšine (vključno z marginaliziranimi skupnostmi, kot so Ro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invalid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ruge prikrajšane oseb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domci ali prizadeti zaradi izključenosti na področju nastanitv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odeželskih območij</a:t>
            </a:r>
            <a:endParaRPr b="0" lang="en-US" sz="1200" spc="-1" strike="noStrike">
              <a:solidFill>
                <a:srgbClr val="000000"/>
              </a:solidFill>
              <a:latin typeface="Calibri"/>
            </a:endParaRPr>
          </a:p>
        </p:txBody>
      </p:sp>
      <p:sp>
        <p:nvSpPr>
          <p:cNvPr id="603"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Skupni ESS kazalniki učinka in rezultat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dobre prakse</a:t>
            </a:r>
            <a:endParaRPr b="0" lang="en-US" sz="2400" spc="-1" strike="noStrike">
              <a:solidFill>
                <a:srgbClr val="000000"/>
              </a:solidFill>
              <a:latin typeface="Calibri"/>
            </a:endParaRPr>
          </a:p>
        </p:txBody>
      </p:sp>
      <p:pic>
        <p:nvPicPr>
          <p:cNvPr id="605" name="Picture 2" descr="rd"/>
          <p:cNvPicPr/>
          <p:nvPr/>
        </p:nvPicPr>
        <p:blipFill>
          <a:blip r:embed="rId1"/>
          <a:stretch/>
        </p:blipFill>
        <p:spPr>
          <a:xfrm>
            <a:off x="355680" y="4389480"/>
            <a:ext cx="7716600" cy="2054160"/>
          </a:xfrm>
          <a:prstGeom prst="rect">
            <a:avLst/>
          </a:prstGeom>
          <a:ln w="0">
            <a:noFill/>
          </a:ln>
        </p:spPr>
      </p:pic>
      <p:sp>
        <p:nvSpPr>
          <p:cNvPr id="606" name="Pravokotnik 2"/>
          <p:cNvSpPr/>
          <p:nvPr/>
        </p:nvSpPr>
        <p:spPr>
          <a:xfrm>
            <a:off x="284040" y="1387440"/>
            <a:ext cx="76107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istrstvo želi krepiti zmogljivosti NVO za zagovorništvo, za organizacijski razvoj NVO in za izvajanje javnih storitev tj. krepitev čezsektorskega sodelovanja, povezovanja in vzpostavljanja partnerstev z namenom reševanja družbenih izzivov. Preko operacij naj bi se nadaljevale in nadgradile storitve podpornega okolja za NVO z namenom dolgoročnega razvoja in učinkovitega sodelovanja nevladnih organizacij pri pripravi in izvajanju javnih politik.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 javni razpis dodajo merilo, ki nagrajuje operacije, ki imajo pozitiven odnos do enakih možnosti oziroma trajnostnega razvoja. Primer: v mreži sodeluje organizacija, ki v okviru svojih aktivnosti vključuje ranljive skupine ali bo v okviru operacije izvajala usposabljanja za aktivacijo ranljivih skupin i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dobre prakse</a:t>
            </a:r>
            <a:endParaRPr b="0" lang="en-US" sz="2400" spc="-1" strike="noStrike">
              <a:solidFill>
                <a:srgbClr val="000000"/>
              </a:solidFill>
              <a:latin typeface="Calibri"/>
            </a:endParaRPr>
          </a:p>
        </p:txBody>
      </p:sp>
      <p:sp>
        <p:nvSpPr>
          <p:cNvPr id="608" name="Rectangle 2"/>
          <p:cNvSpPr/>
          <p:nvPr/>
        </p:nvSpPr>
        <p:spPr>
          <a:xfrm>
            <a:off x="284040" y="1267920"/>
            <a:ext cx="7751880" cy="25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V okviru Operativnega programa za krepitev razvojnih potencialov je bilo v obdobju 2007-2013 objavljenih več javnih pozivov za izbor operacij, katerim se dodeli nepovratna sredstva Evropskega sklada za regionalni razvoj razvojne prioritete </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Razvoj regij</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 prednostne usmeritve </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Regionalni razvojni programi</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 za sofinanciranje operacij za naslednje namene:</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ekonomska in izobraževal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promet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okoljsk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razvoj urbanih naselij,</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javna infrastruktura v območjih s posebnimi varstvenimi režimi in v turističnih območjih,</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socialna infrastruktura.</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Arial"/>
              </a:rPr>
              <a:t>Mestna občina Maribor je izvedla projekt "Odprava arhitektonskih ovir za invalide in ureditev javnih prometnih površin za potrebe slepih in slabovidnih v centru mesta Maribor", katerega namen je prilagoditev mestnih prometnih površin za potrebe invalidov ter za potrebe slepih in slabovidnih.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Arial"/>
              </a:rPr>
              <a:t>Izsek iz gradiva za obravnavo na Mestnem svetu</a:t>
            </a:r>
            <a:endParaRPr b="0" lang="en-US" sz="1200" spc="-1" strike="noStrike">
              <a:solidFill>
                <a:srgbClr val="000000"/>
              </a:solidFill>
              <a:latin typeface="Calibri"/>
            </a:endParaRPr>
          </a:p>
        </p:txBody>
      </p:sp>
      <p:pic>
        <p:nvPicPr>
          <p:cNvPr id="609" name="Picture 1" descr="mo"/>
          <p:cNvPicPr/>
          <p:nvPr/>
        </p:nvPicPr>
        <p:blipFill>
          <a:blip r:embed="rId1"/>
          <a:stretch/>
        </p:blipFill>
        <p:spPr>
          <a:xfrm>
            <a:off x="1817640" y="3914640"/>
            <a:ext cx="4610160" cy="2943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slabe prakse</a:t>
            </a:r>
            <a:endParaRPr b="0" lang="en-US" sz="2400" spc="-1" strike="noStrike">
              <a:solidFill>
                <a:srgbClr val="000000"/>
              </a:solidFill>
              <a:latin typeface="Calibri"/>
            </a:endParaRPr>
          </a:p>
        </p:txBody>
      </p:sp>
      <p:sp>
        <p:nvSpPr>
          <p:cNvPr id="611" name="Pravokotnik 2"/>
          <p:cNvSpPr/>
          <p:nvPr/>
        </p:nvSpPr>
        <p:spPr>
          <a:xfrm>
            <a:off x="284040" y="1982880"/>
            <a:ext cx="7224840" cy="268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Izmišljen primer:</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Ukrep za usklajevanje poklicnega in zasebnega življenja, do katerega so upravičene samo ženske ali starši z majhnimi otroki.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Prav tako se moramo izogibati ukrepom, ki utrjujejo stereotipne predstave o članih in članicah etničnih, verskih in drugih manjšin, da so (bolj) primerni za opravljanje nekaterih del (npr. Romi in (izključno) glasb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fo: </a:t>
            </a:r>
            <a:br>
              <a:rPr sz="2800"/>
            </a:br>
            <a:r>
              <a:rPr b="1" lang="sl-SI" sz="2800" spc="-1" strike="noStrike">
                <a:solidFill>
                  <a:srgbClr val="000000"/>
                </a:solidFill>
                <a:latin typeface="Calibri"/>
              </a:rPr>
              <a:t>stasa.mesec@gov.si</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96720"/>
            <a:ext cx="7886880" cy="827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U uredba o skupnih določbah, člen 7</a:t>
            </a:r>
            <a:endParaRPr b="0" lang="en-US" sz="3600" spc="-1" strike="noStrike">
              <a:solidFill>
                <a:srgbClr val="000000"/>
              </a:solidFill>
              <a:latin typeface="Calibri Light"/>
            </a:endParaRPr>
          </a:p>
        </p:txBody>
      </p:sp>
      <p:sp>
        <p:nvSpPr>
          <p:cNvPr id="565"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ržave članice in Komisija zagotovijo, da se med celotno pripravo in izvajanjem programov, vključno v zvezi s spremljanjem, poročanjem in vrednotenjem, upoštevata in spodbujata enakost moških in žensk ter vključevanje vidika spolov.</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Komisija in države članice sprejmejo ustrezne ukrepe za preprečitev diskriminacije na podlagi spola, rase ali etničnega porekla, vere ali prepričanja, invalidnosti, starosti ali spolne usmerjenosti med pripravo in izvajanjem skladov. Med celotno pripravo in izvajanjem programov se zlasti upošteva dostopnost za invalid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84456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Vsebina smernic…</a:t>
            </a:r>
            <a:endParaRPr b="0" lang="en-US" sz="3600" spc="-1" strike="noStrike">
              <a:solidFill>
                <a:srgbClr val="000000"/>
              </a:solidFill>
              <a:latin typeface="Calibri Light"/>
            </a:endParaRPr>
          </a:p>
        </p:txBody>
      </p:sp>
      <p:sp>
        <p:nvSpPr>
          <p:cNvPr id="56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stitucionalna uredite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Temeljni pojm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načrtov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izvaj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Usmeritve za preverjanje ustreznosti / spodbujanje uveljavljanja načel integracije ob</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Načrtovanju</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zvajanj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130120"/>
            <a:ext cx="7788240" cy="10285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a:t>
            </a:r>
            <a:r>
              <a:rPr b="0" lang="sl-SI" sz="3600" spc="-1" strike="noStrike">
                <a:solidFill>
                  <a:srgbClr val="000000"/>
                </a:solidFill>
                <a:latin typeface="Calibri Light"/>
              </a:rPr>
              <a:t>zakaj…</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75240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
        <p:nvSpPr>
          <p:cNvPr id="570" name=""/>
          <p:cNvSpPr txBox="1"/>
          <p:nvPr/>
        </p:nvSpPr>
        <p:spPr>
          <a:xfrm>
            <a:off x="628560" y="1825200"/>
            <a:ext cx="788688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 prebivalci </a:t>
            </a:r>
            <a:r>
              <a:rPr b="0" lang="sl-SI" sz="2400" spc="-1" strike="noStrike">
                <a:solidFill>
                  <a:srgbClr val="000000"/>
                </a:solidFill>
                <a:latin typeface="Calibri"/>
              </a:rPr>
              <a:t>EU </a:t>
            </a:r>
            <a:r>
              <a:rPr b="0" lang="en-US" sz="2400" spc="-1" strike="noStrike">
                <a:solidFill>
                  <a:srgbClr val="000000"/>
                </a:solidFill>
                <a:latin typeface="Calibri"/>
              </a:rPr>
              <a:t>več kot 15 % invalidov, v Sloveniji od 160.000 do 170.000 invalidov (delovnih invalidov, otrok in mladostnikov s posebnimi potrebami, vojaških in vojnih invalidov ter zmerno, težje in težko duševno in najtežje telesno prizadetih oseb)</a:t>
            </a:r>
            <a:r>
              <a:rPr b="0" lang="sl-SI" sz="2400" spc="-1" strike="noStrike">
                <a:solidFill>
                  <a:srgbClr val="000000"/>
                </a:solidFill>
                <a:latin typeface="Calibri"/>
              </a:rPr>
              <a:t> oziroma </a:t>
            </a:r>
            <a:r>
              <a:rPr b="0" lang="en-US" sz="2400" spc="-1" strike="noStrike">
                <a:solidFill>
                  <a:srgbClr val="000000"/>
                </a:solidFill>
                <a:latin typeface="Calibri"/>
              </a:rPr>
              <a:t>okoli 12–13 %</a:t>
            </a:r>
            <a:r>
              <a:rPr b="0" lang="sl-SI" sz="2400" spc="-1" strike="noStrike">
                <a:solidFill>
                  <a:srgbClr val="000000"/>
                </a:solidFill>
                <a:latin typeface="Calibri"/>
              </a:rPr>
              <a:t> (ocena SURS)</a:t>
            </a:r>
            <a:endParaRPr b="0" lang="en-US" sz="2400" spc="-1" strike="noStrike">
              <a:solidFill>
                <a:srgbClr val="000000"/>
              </a:solidFill>
              <a:latin typeface="Calibri"/>
            </a:endParaRPr>
          </a:p>
        </p:txBody>
      </p:sp>
      <p:pic>
        <p:nvPicPr>
          <p:cNvPr id="571" name="Picture 2" descr=""/>
          <p:cNvPicPr/>
          <p:nvPr/>
        </p:nvPicPr>
        <p:blipFill>
          <a:blip r:embed="rId1"/>
          <a:stretch/>
        </p:blipFill>
        <p:spPr>
          <a:xfrm>
            <a:off x="5232240" y="3757680"/>
            <a:ext cx="2928960" cy="21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 grobih ocenah število slepih in slabovidnih v Sloveniji med 8 in 10.000 oziroma od 0,2 do 0,5 % vsega prebivalstva (podatki ZDS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3" name="Picture 2" descr=""/>
          <p:cNvPicPr/>
          <p:nvPr/>
        </p:nvPicPr>
        <p:blipFill>
          <a:blip r:embed="rId1"/>
          <a:stretch/>
        </p:blipFill>
        <p:spPr>
          <a:xfrm>
            <a:off x="4327560" y="3154320"/>
            <a:ext cx="3760920" cy="2867040"/>
          </a:xfrm>
          <a:prstGeom prst="rect">
            <a:avLst/>
          </a:prstGeom>
          <a:ln w="0">
            <a:noFill/>
          </a:ln>
        </p:spPr>
      </p:pic>
      <p:pic>
        <p:nvPicPr>
          <p:cNvPr id="574" name="Picture 3" descr=""/>
          <p:cNvPicPr/>
          <p:nvPr/>
        </p:nvPicPr>
        <p:blipFill>
          <a:blip r:embed="rId2"/>
          <a:stretch/>
        </p:blipFill>
        <p:spPr>
          <a:xfrm>
            <a:off x="1565280" y="3208320"/>
            <a:ext cx="2314440" cy="2759040"/>
          </a:xfrm>
          <a:prstGeom prst="rect">
            <a:avLst/>
          </a:prstGeom>
          <a:ln w="0">
            <a:noFill/>
          </a:ln>
        </p:spPr>
      </p:pic>
      <p:sp>
        <p:nvSpPr>
          <p:cNvPr id="575" name="PlaceHolder 1"/>
          <p:cNvSpPr>
            <a:spLocks noGrp="1"/>
          </p:cNvSpPr>
          <p:nvPr>
            <p:ph type="title"/>
          </p:nvPr>
        </p:nvSpPr>
        <p:spPr>
          <a:xfrm>
            <a:off x="628560" y="365040"/>
            <a:ext cx="7886880" cy="812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elež visoko izobraženih brezposelnih žensk v obdobju 2005-2013 narasel za 2,5 krat (dobrih 15 %) v primerjavi z moškimi, kjer je delež narastel le 1,3 krat </a:t>
            </a:r>
            <a:endParaRPr b="0" lang="en-US" sz="2400" spc="-1" strike="noStrike">
              <a:solidFill>
                <a:srgbClr val="000000"/>
              </a:solidFill>
              <a:latin typeface="Calibri"/>
            </a:endParaRPr>
          </a:p>
        </p:txBody>
      </p:sp>
      <p:pic>
        <p:nvPicPr>
          <p:cNvPr id="577" name="Picture 2" descr=""/>
          <p:cNvPicPr/>
          <p:nvPr/>
        </p:nvPicPr>
        <p:blipFill>
          <a:blip r:embed="rId1"/>
          <a:stretch/>
        </p:blipFill>
        <p:spPr>
          <a:xfrm>
            <a:off x="2768760" y="2959200"/>
            <a:ext cx="5316480" cy="3797280"/>
          </a:xfrm>
          <a:prstGeom prst="rect">
            <a:avLst/>
          </a:prstGeom>
          <a:ln w="0">
            <a:noFill/>
          </a:ln>
        </p:spPr>
      </p:pic>
      <p:sp>
        <p:nvSpPr>
          <p:cNvPr id="578" name="PlaceHolder 1"/>
          <p:cNvSpPr>
            <a:spLocks noGrp="1"/>
          </p:cNvSpPr>
          <p:nvPr>
            <p:ph type="title"/>
          </p:nvPr>
        </p:nvSpPr>
        <p:spPr>
          <a:xfrm>
            <a:off x="628560" y="364680"/>
            <a:ext cx="7886880" cy="854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6811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Namen smernic</a:t>
            </a:r>
            <a:endParaRPr b="0" lang="en-US" sz="3600" spc="-1" strike="noStrike">
              <a:solidFill>
                <a:srgbClr val="000000"/>
              </a:solidFill>
              <a:latin typeface="Calibri Light"/>
            </a:endParaRPr>
          </a:p>
        </p:txBody>
      </p:sp>
      <p:sp>
        <p:nvSpPr>
          <p:cNvPr id="580" name=""/>
          <p:cNvSpPr txBox="1"/>
          <p:nvPr/>
        </p:nvSpPr>
        <p:spPr>
          <a:xfrm>
            <a:off x="628560" y="1825200"/>
            <a:ext cx="7886880" cy="435132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rati ključne poj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vzeti evropske usmeritve in regulative (zahteve) za spremljanj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praviti usmeritve za preverjanje ustreznosti ukrepov in projekto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7680" y="87120"/>
            <a:ext cx="7886520" cy="623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stitucionalna ureditev</a:t>
            </a:r>
            <a:endParaRPr b="0" lang="en-US" sz="3600" spc="-1" strike="noStrike">
              <a:solidFill>
                <a:srgbClr val="000000"/>
              </a:solidFill>
              <a:latin typeface="Calibri Light"/>
            </a:endParaRPr>
          </a:p>
        </p:txBody>
      </p:sp>
      <p:sp>
        <p:nvSpPr>
          <p:cNvPr id="582" name="Zaobljeni pravokotnik 2"/>
          <p:cNvSpPr/>
          <p:nvPr/>
        </p:nvSpPr>
        <p:spPr>
          <a:xfrm>
            <a:off x="131760" y="1189080"/>
            <a:ext cx="8839080" cy="106668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edhodna pogojenost:  obstoj administrativne usposobljenosti na področju ESI za izvajanje in uporabo zakonodaje in politike Unije za enakost spolov in nediskriminacijo ter Konvencije ZN o pravicah invalidov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Zaobljeni pravokotnik 3"/>
          <p:cNvSpPr/>
          <p:nvPr/>
        </p:nvSpPr>
        <p:spPr>
          <a:xfrm>
            <a:off x="131760" y="2784600"/>
            <a:ext cx="422748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govornik načela enakost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uresničevanju načela enakega obravnavanja)</a:t>
            </a:r>
            <a:endParaRPr b="0" lang="en-US" sz="1800" spc="-1" strike="noStrike">
              <a:solidFill>
                <a:srgbClr val="000000"/>
              </a:solidFill>
              <a:latin typeface="Calibri"/>
            </a:endParaRPr>
          </a:p>
        </p:txBody>
      </p:sp>
      <p:sp>
        <p:nvSpPr>
          <p:cNvPr id="584" name="Zaobljeni pravokotnik 4"/>
          <p:cNvSpPr/>
          <p:nvPr/>
        </p:nvSpPr>
        <p:spPr>
          <a:xfrm>
            <a:off x="4653000" y="2784600"/>
            <a:ext cx="424656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vet za invali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izenačevanju možnosti za invalide)</a:t>
            </a:r>
            <a:endParaRPr b="0" lang="en-US" sz="1800" spc="-1" strike="noStrike">
              <a:solidFill>
                <a:srgbClr val="000000"/>
              </a:solidFill>
              <a:latin typeface="Calibri"/>
            </a:endParaRPr>
          </a:p>
        </p:txBody>
      </p:sp>
      <p:sp>
        <p:nvSpPr>
          <p:cNvPr id="585" name="Pravokotnik 5"/>
          <p:cNvSpPr/>
          <p:nvPr/>
        </p:nvSpPr>
        <p:spPr>
          <a:xfrm>
            <a:off x="275760" y="2324160"/>
            <a:ext cx="5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LO</a:t>
            </a:r>
            <a:r>
              <a:rPr b="0" lang="sl-SI" sz="1800" spc="-1" strike="noStrike">
                <a:solidFill>
                  <a:srgbClr val="ffffff"/>
                </a:solidFill>
                <a:latin typeface="Calibri"/>
              </a:rPr>
              <a:t> </a:t>
            </a:r>
            <a:endParaRPr b="0" lang="en-US" sz="1800" spc="-1" strike="noStrike">
              <a:solidFill>
                <a:srgbClr val="000000"/>
              </a:solidFill>
              <a:latin typeface="Calibri"/>
            </a:endParaRPr>
          </a:p>
        </p:txBody>
      </p:sp>
      <p:sp>
        <p:nvSpPr>
          <p:cNvPr id="586" name="Zaobljeni pravokotnik 6"/>
          <p:cNvSpPr/>
          <p:nvPr/>
        </p:nvSpPr>
        <p:spPr>
          <a:xfrm>
            <a:off x="1173240" y="4338720"/>
            <a:ext cx="6370560" cy="6699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ektor za enake možnosti / Direktorat za invalide MDDSZ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srednja koordinacija)</a:t>
            </a:r>
            <a:endParaRPr b="0" lang="en-US" sz="1800" spc="-1" strike="noStrike">
              <a:solidFill>
                <a:srgbClr val="000000"/>
              </a:solidFill>
              <a:latin typeface="Calibri"/>
            </a:endParaRPr>
          </a:p>
        </p:txBody>
      </p:sp>
      <p:sp>
        <p:nvSpPr>
          <p:cNvPr id="587" name="Zaobljeni pravokotnik 7"/>
          <p:cNvSpPr/>
          <p:nvPr/>
        </p:nvSpPr>
        <p:spPr>
          <a:xfrm>
            <a:off x="1173240" y="5611680"/>
            <a:ext cx="6370560" cy="62100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U+ostali organi: zagotavljajo , da so horizontalna načela vgrajena v aktivnosti v okviru KP</a:t>
            </a:r>
            <a:endParaRPr b="0" lang="en-US" sz="1800" spc="-1" strike="noStrike">
              <a:solidFill>
                <a:srgbClr val="000000"/>
              </a:solidFill>
              <a:latin typeface="Calibri"/>
            </a:endParaRPr>
          </a:p>
        </p:txBody>
      </p:sp>
      <p:sp>
        <p:nvSpPr>
          <p:cNvPr id="588" name="Elipsa 8"/>
          <p:cNvSpPr/>
          <p:nvPr/>
        </p:nvSpPr>
        <p:spPr>
          <a:xfrm>
            <a:off x="6421320" y="5923080"/>
            <a:ext cx="2549520" cy="934920"/>
          </a:xfrm>
          <a:prstGeom prst="ellipse">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zS</a:t>
            </a:r>
            <a:endParaRPr b="0" lang="en-US" sz="1800" spc="-1" strike="noStrike">
              <a:solidFill>
                <a:srgbClr val="000000"/>
              </a:solidFill>
              <a:latin typeface="Calibri"/>
            </a:endParaRPr>
          </a:p>
        </p:txBody>
      </p:sp>
      <p:sp>
        <p:nvSpPr>
          <p:cNvPr id="589" name="Dvosmerna navpična puščica 9"/>
          <p:cNvSpPr/>
          <p:nvPr/>
        </p:nvSpPr>
        <p:spPr>
          <a:xfrm>
            <a:off x="3006720" y="3759120"/>
            <a:ext cx="243000" cy="579600"/>
          </a:xfrm>
          <a:prstGeom prst="upDownArrow">
            <a:avLst>
              <a:gd name="adj1" fmla="val 50000"/>
              <a:gd name="adj2" fmla="val 49989"/>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Dvosmerna navpična puščica 12"/>
          <p:cNvSpPr/>
          <p:nvPr/>
        </p:nvSpPr>
        <p:spPr>
          <a:xfrm>
            <a:off x="5495760" y="3759120"/>
            <a:ext cx="243000" cy="579600"/>
          </a:xfrm>
          <a:prstGeom prst="upDownArrow">
            <a:avLst>
              <a:gd name="adj1" fmla="val 50000"/>
              <a:gd name="adj2" fmla="val 49989"/>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
          <p:cNvPicPr/>
          <p:nvPr/>
        </p:nvPicPr>
        <p:blipFill>
          <a:blip r:embed="rId1"/>
          <a:stretch/>
        </p:blipFill>
        <p:spPr>
          <a:xfrm>
            <a:off x="4208400" y="5008680"/>
            <a:ext cx="28116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ser</cp:lastModifiedBy>
  <cp:lastPrinted>2015-11-30T13:43:06Z</cp:lastPrinted>
  <dcterms:modified xsi:type="dcterms:W3CDTF">2015-12-01T12:01:35Z</dcterms:modified>
  <cp:revision>31</cp:revision>
  <dc:subject/>
  <dc:title>PowerPoint Presentation</dc:title>
</cp:coreProperties>
</file>